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000-647A-4BFC-A93A-8A585235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DE8-BE1E-4A30-8404-20E573D5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E13-4E06-4C5F-96C0-B686213B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526-D17D-4E2E-8A41-5E70B65F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9A4-C7E2-4C3F-BB9A-78291993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2DF-5BC5-4055-876E-A7778AD6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D57-E95A-4780-BFFE-B50BD886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791-EF7E-4D7F-ACF0-671E263A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DB9-7BDD-404B-ABF3-68211AAD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1FC-7E39-4FAC-8424-4D04F38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67F-D83B-4969-86DD-AAC2323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B0F-FA27-4F7E-9FDF-F3607D7B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F2B-C96E-4ED4-9372-C189DA76D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Curent_electri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ea lui O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de curent continu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76480" y="2914560"/>
            <a:ext cx="2600280" cy="189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e de circu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 elec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erme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me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z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conductoare de legătu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Legea lui Ohm </a:t>
            </a:r>
            <a:br>
              <a:rPr sz="4000"/>
            </a:br>
            <a:r>
              <a:rPr b="0" lang="ro-RO" sz="4000" spc="-1" strike="noStrike" u="sng">
                <a:solidFill>
                  <a:srgbClr val="000000"/>
                </a:solidFill>
                <a:uFillTx/>
                <a:latin typeface="Arial"/>
              </a:rPr>
              <a:t>pentru o porțiune de circ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14716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ntensitat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I) </a:t>
            </a:r>
            <a:r>
              <a:rPr b="0" lang="ro-RO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urentului electr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r-o portiune de circuit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direct proporţională cu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tensiun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U) aplicată la capete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ste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6:39:43Z</dcterms:created>
  <dc:creator>AS</dc:creator>
  <dc:description/>
  <dc:language>en-US</dc:language>
  <cp:lastModifiedBy>AS</cp:lastModifiedBy>
  <dcterms:modified xsi:type="dcterms:W3CDTF">2010-01-08T17:50:28Z</dcterms:modified>
  <cp:revision>5</cp:revision>
  <dc:subject/>
  <dc:title>Ecuația de gradul II</dc:title>
</cp:coreProperties>
</file>